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8DD-03EC-4DBE-B421-DE9F822F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341-1BC0-4F29-A561-BC8652D3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193-B8DE-4CCD-BD59-8B51F67D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153-32F7-4F39-8E1B-E140FFFA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49F-3DE7-4A9B-A3F4-E3580B31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A7A-7E77-4CBD-BEA4-81A0648A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8DE-2AB3-4485-B162-FEBC31DD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FE4-B32E-4DB8-BC89-9E35BCF3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2F9-234D-43E9-BBF0-F0B14D65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9B1-B86D-4EFB-8155-B4D7DC1C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89D-44DA-4E2A-942E-6B3F5EA0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995-2132-4608-8456-5273F656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07A1-AA93-4F5F-9D41-01930E3F8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76320"/>
          <a:ext cx="8610480" cy="65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320"/>
                    <a:ext cx="8610480" cy="65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316240" y="228600"/>
          <a:ext cx="48592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6240" y="228600"/>
                    <a:ext cx="48592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63680" y="533520"/>
          <a:ext cx="45007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533520"/>
                    <a:ext cx="4500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17840" y="609480"/>
          <a:ext cx="44164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609480"/>
                    <a:ext cx="4416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04920" y="452520"/>
          <a:ext cx="8229600" cy="59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2520"/>
                    <a:ext cx="822960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417760" y="304920"/>
          <a:ext cx="46404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304920"/>
                    <a:ext cx="4640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6400" y="0"/>
            <a:ext cx="56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565200"/>
          <a:ext cx="9144000" cy="57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5200"/>
                    <a:ext cx="914400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473120" y="291960"/>
          <a:ext cx="6197760" cy="627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91960"/>
                    <a:ext cx="61977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16320" y="228600"/>
            <a:ext cx="4706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5:56Z</dcterms:created>
  <dc:creator>tahir</dc:creator>
  <dc:description/>
  <dc:language>en-US</dc:language>
  <cp:lastModifiedBy>tahir</cp:lastModifiedBy>
  <dcterms:modified xsi:type="dcterms:W3CDTF">2006-02-07T12:47:47Z</dcterms:modified>
  <cp:revision>1</cp:revision>
  <dc:subject/>
  <dc:title>الشريحة 1</dc:title>
</cp:coreProperties>
</file>