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27D5-1DC1-40B0-8F87-B4E29C1E7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EC07-D697-4EF3-B4BC-51DD0F996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714C-35F7-4823-8B61-37AF34F58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2254-3F19-458B-9BE6-333C30A82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D6EF-EA33-4B5F-8253-5D52717BA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C0CC-5EB8-4FEA-922F-8D843497F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3FBF-E45D-4DB1-AD19-D25C3E407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4F82-84C0-4CC2-B0C1-F3A94F92C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0F8D-22A5-43C4-AEBE-BA65E7452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CE6A-2FE6-464C-B99D-BC04CDD5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78D7-A49C-42B4-821D-8B8003AAF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010A-4798-4580-A7A7-E8F73FC32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673FD-A5BD-4712-A13B-33866511F84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128680" y="380880"/>
          <a:ext cx="5015160" cy="594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8680" y="380880"/>
                    <a:ext cx="501516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543800" cy="26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214280" y="52560"/>
          <a:ext cx="6716880" cy="675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52560"/>
                    <a:ext cx="6716880" cy="675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9200" y="1125360"/>
            <a:ext cx="8607600" cy="46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366920" y="423720"/>
            <a:ext cx="6410160" cy="601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343240" y="147600"/>
            <a:ext cx="4457520" cy="65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2680" y="1450800"/>
            <a:ext cx="8378640" cy="426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676520" y="431640"/>
            <a:ext cx="6172200" cy="564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914400" y="1422360"/>
            <a:ext cx="7620120" cy="27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7112160" cy="26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7T12:48:38Z</dcterms:created>
  <dc:creator>tahir</dc:creator>
  <dc:description/>
  <dc:language>en-US</dc:language>
  <cp:lastModifiedBy>tahir</cp:lastModifiedBy>
  <dcterms:modified xsi:type="dcterms:W3CDTF">2006-02-07T12:49:03Z</dcterms:modified>
  <cp:revision>1</cp:revision>
  <dc:subject/>
  <dc:title>الشريحة 1</dc:title>
</cp:coreProperties>
</file>