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F74-B854-4DEE-A477-9178DF11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C1F-CDD7-487B-A29F-ECD7EF23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8D1-9ACE-49F2-AFB9-9FA666E3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545-1FCE-44DC-94A3-02F6017A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DD8-E916-4E38-8D68-5FD92C2A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053-6CE9-4D0C-BC2F-A3A7B486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BCB-EDB4-42CF-977B-3AABE6B4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3F8-4DCB-43B8-A229-6F72578D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395-1757-44F6-860F-319A6B6A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EBA-F115-4E69-BDC2-F5030E1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E6F-117C-49EE-86A8-41B5DD9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9A1-AF62-4CE7-A0B0-23CB0E27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733E-AE07-4FE7-916E-4642E2987E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40040" y="733320"/>
            <a:ext cx="51102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2560" y="1557360"/>
            <a:ext cx="7777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84360" y="152244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090440"/>
            <a:ext cx="5616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057320"/>
            <a:ext cx="7488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2723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6087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235160"/>
            <a:ext cx="5183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758880"/>
            <a:ext cx="75358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0403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9:35Z</dcterms:created>
  <dc:creator>tahir</dc:creator>
  <dc:description/>
  <dc:language>en-US</dc:language>
  <cp:lastModifiedBy>tahir</cp:lastModifiedBy>
  <dcterms:modified xsi:type="dcterms:W3CDTF">2006-02-07T12:49:49Z</dcterms:modified>
  <cp:revision>1</cp:revision>
  <dc:subject/>
  <dc:title>الشريحة 1</dc:title>
</cp:coreProperties>
</file>