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2FC1-4E66-4F41-B346-48345710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D5EF-3173-44A5-8138-4D005AD5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5311C-7BFC-4B0C-BA9D-A125227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A4071-DAB1-4BEC-A6BC-B590CA3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374E5-6BE3-440D-AB66-9A889E21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59A5F-2606-4CB3-8419-D611024E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412A1-6035-48B0-87D6-FD502AB7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4D0B1-B6A3-40C9-A9E6-DA307A5E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FBD42-4C74-4046-9BE3-5A73EB26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4470A-9C7C-42D4-B472-ED8ABA48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FFD62-F6A3-4968-9B56-B61ACF1A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C6F7D-654E-485E-BC31-40543890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0906-FF25-42F6-AE2C-3FFEB093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08100-576D-4825-8C5A-1C5ECC16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92667-F343-4346-9356-EC52819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E8D93-CD40-4138-AA74-40CFC600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90206-7C3A-42C3-A7B6-434ADD7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4450E-9B29-4A51-A0F0-9E58A962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421E6-7C3F-467A-AB03-D811C7D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9ED57-4677-4CB5-86C9-8DF1315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AB09F-FD52-4692-AB6C-E627BC5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610E6-4DBB-40EB-88C8-4AAC1ED4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8D0DE-E803-43A9-A3BB-FF848D46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63B02-4457-477F-BB5E-2029D945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C6080-51AB-4272-8DDB-EA09C398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163F0-1F4E-4E37-9178-3F971832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9898A-ED62-41AF-BE44-D95D0884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2A6D1-7E56-432E-96C4-053C2BF4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80DF-CC56-41CC-B91D-C01ED9A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00729-3A84-4E89-8570-4CBC4BEB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2740E-B55F-4666-B6D1-B3758FE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15797-300B-4433-A373-9E4638E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6E975-626F-4558-B60D-7F998790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1457F-9CCE-4D2D-8656-D3DBF83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B116-A283-4E91-B117-69655807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CA6B1-9088-4CAA-8A17-55BEB315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3827C-CD36-4634-A106-FADBEFD4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8CD06-56A6-402C-BF68-9605D34C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610E7-4277-4D62-81BA-955C165F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8A9AE-3CFA-436E-B018-6F9B7E93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96CD4-7A67-4854-854B-9B75CEA0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46847-CF89-4B5A-A113-B497F31A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C6C48-4A81-41F9-96E1-3681EA03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3B944E-AC9A-40EA-9646-875812B7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8A5B5C-E1C3-4290-BB55-7AB4A6CF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EE01-51CB-4F5A-B7F4-8EFAB410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A2F61-2550-4A3A-A928-FF896EC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BE453-0CA0-479D-97DF-AC2A4D49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D7C60-83E4-45AB-BAF9-5920ECBB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B82AC-6371-486D-8BA7-EC612F08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3B529-71C6-44B5-A871-CACB0F33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7A9172-CFED-4DC2-B575-CEDEEA55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C3E437-9D26-4C3E-BB9E-0C1A8AD5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4F154-AD72-4C4E-9575-D282BA4C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2FAE1-E9DE-4ECE-B514-AF9808ED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3F8BD-BFFD-4B04-AC22-95EDE12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C955-FC24-49F4-B00A-2C80A4A4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0FF21-BEC5-4540-9CAD-B7C23E69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7991F-EF26-416B-B350-6F54A7A6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572CA-82D9-4327-9A3A-64FBA8A1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DA091-0126-4B33-8D02-F5DD2CED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A210A7-2045-4D38-8816-74BD7F14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5300A6-9CB2-4838-8085-3C887FD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2D92F-086E-49D5-9F22-0CBB9CFD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EDB75-2D83-48A5-971C-31A3FAE7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AB6F2-2228-4F60-8948-99B069BE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1BCE3C-CBEA-4A45-9E64-CD97F224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9F58-D14A-4616-8F57-60338478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86F2B-48E4-4D28-8286-330326A9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9F1758-AF68-489A-9895-AFC09BC7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572BA-B580-427E-84AA-1399EF9E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EDD4C-4EA8-4664-BFE0-BDD3C3BC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A44DB-D0F4-4251-8E8C-4E3610B1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F6B0C0-A53C-4533-8F6B-0B059FF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907DF-F925-4A6F-9992-5A0ED819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72E84-13BD-474B-BE3E-E2A81283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04AC5-27D4-44ED-8654-B6BEA20B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2E2D8-8871-4CEE-8ECD-CCA6B787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9E677-4CE3-4198-9CB7-49D65716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0A9D8C-75C0-4BF9-8495-C8F1B23E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ADABA8-6330-4581-A064-5BD89E1D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F52AF9-33E5-4964-8067-E7207ABC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01BDE-9BB9-43FE-8276-EDF534E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0E916-A7E4-4922-B4F3-49DDF773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BF2F8-7F30-4A04-A74C-8349F6AB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5EC1F6-487F-43FB-ACB2-7E5B399D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6C60B-9F50-46D6-8C24-63088EC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6B61A2-9AC9-4386-B06F-3A273456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9E542-2E53-4D56-B29E-78C13D7A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3AF9-0656-4C40-ABF6-CE2A14B1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B8B6D4-CDFB-4836-922B-4A740FEB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416ED-6BA0-4D54-961A-27EB4A8F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B7BFD-8867-4112-B85C-9ED8F078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D7054B-818C-4658-B6EC-99982DF3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809F3-8660-4513-AD1C-496D2F06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446C17-12DA-4EF6-8F67-0B16C5A9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4DDE0-E547-45D6-BAE8-0A7C4BE5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55AEB-7337-405E-9B07-8319A6ED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314AA-6BC1-4BCD-8A31-D639A0D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3114C-6BEB-4086-B0B9-028BB78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7C6E-1543-4E2E-A625-D4C58DBC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B1C18-EBE1-48FB-9179-AFE1587B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E598FF-7F8F-452D-85A2-6A83EE23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B4E3B-3896-4E4F-A6E6-93DD1C0F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C43B-A0DC-4EC9-9ED4-A847E66C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297F-C906-418A-A4D4-9D79D677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6A6-086D-4543-9759-787C88AA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745A-8685-490A-94EF-F95DBF6E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B9DB-6DEE-4D30-8B3B-B086EBF77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2911-00C7-4EF8-8283-89E2316D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F396D-F912-403D-B873-DE1D5C35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B5FFD-381A-47B5-AB65-6DFE5402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4F32-2A34-4DC1-A19D-C2347225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4A32-C7BA-4845-8A43-07A21C5E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E9595-6050-4D33-BF8A-41F49486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B9C5-3C2D-4B84-99E4-7AA78A47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16BF3-9E7F-43E7-B0BD-4E3428AD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CB3AC-4120-47FF-A078-6727DB98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3FEC-E0EC-4C71-BF66-0162AFAE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0BD5-90DC-4B3E-BAA6-DE08179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30FC-923D-4B5F-943E-D457F7AF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B74B-A8BF-43F9-B84E-14D1A5FF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8AD0A-E874-416B-8249-6E0CC86E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71D85-B397-41C7-A798-457433FE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42827-4D07-4C2F-B656-0693A1CA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447EF-5AAF-49F7-A2CD-3AB8798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9E31-E750-42A2-980D-6C27A6C6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A9F7-46E0-4DEA-AF8F-34B1B0DD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91992-4139-40B7-B294-CC6EA044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D9327-F1D2-4363-B819-D96FD4B2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4E02B-E60A-40DB-A31C-B0F57602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9133-5E57-4F10-8574-CBC2FBB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8BA83-0821-4F78-8247-DDAE4ADD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12F6-25EA-4F75-A310-737A25E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2EEA-49B3-4B6E-85C3-3970C14E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38BB5-428D-451A-AFCA-C99251FD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20E72-14DB-4CBA-8AAD-C16310AF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12B53-009B-4C8C-ADF5-0F79C967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789C3-E7EA-4762-8906-E2B9E4A3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8737D-1907-4A24-B6B2-C032AAEC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55F44-6D99-40AD-AD9B-1E1D6B18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5CC19-87F7-4525-8D25-2CCA0922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C164B-B6EC-4CDD-991B-5D876E22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D1CB2-825E-41D5-AD61-DD222CB8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2FF4-D7DA-474F-A654-DF901CF7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C7CE3-5811-4FD2-9FBE-C8AD62AE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6C83B-A6A8-4D5C-BD05-937C5877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2ED2B-945C-4CE1-BDD6-1426A586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B1A2D-B065-4A7B-A212-9F884CBA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C1E4-1905-4F81-83A9-F40E4B80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87F5D0-1AE1-4346-8D0A-32B8470E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2AC1F9-7F6B-487F-9DE7-7A57FA74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8EE777-455A-4A07-9A2F-D9BFDA92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4258A-7F0B-47F1-BC71-E761614C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E8DEE-ED8B-40C4-94BD-B555E8B7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CE5BBC-53FC-45EC-93AF-5D21950A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EC35B-8DC6-402B-958C-7B93E6B1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0F555-57DD-4036-AFC7-C27474AB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B9D75A-D588-4EC3-AB75-13564E01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5829-1B85-4580-BC67-105C7D5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38B891-9ACF-433F-89D8-15F2982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D9177D-08C0-47B7-9285-E6C2A242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A2DB0-B73F-43EC-9C27-EDAC2F0C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F1EE-8A58-44F3-9548-2899FE5F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2011-2E23-4FF9-B5FF-3D378FEF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5C3A5-0C43-4447-BE6F-28C42FE1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163CF-C628-4486-BC34-F3B958D7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AD823-1E2A-4DD0-B2AC-4130E34C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08A0E-4846-427B-B858-2BE0328B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438BC-EAC4-4519-B333-8CB78B7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14F5-D6AC-4B03-8AA5-84590435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E13E6-FED7-4EF4-9D9A-74E52C3F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E6BD-62F4-497B-A76A-4A20095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C6514-1324-4BC9-8ACF-0B65C346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FD46A-7EE9-4CE4-8929-DF71EA07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CB0F0-4933-419C-9F3D-CBCDF4F9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FDA63C-9C6E-4CAF-9072-219572E6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459FD-BF67-4BAC-8311-1A97C97C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F7CA76-D609-4FCC-A61B-33D6DEBA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6FCCB0-17DA-4D48-8502-A4DAF4F2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62B2AB-E58F-4A4C-A4B1-14F394F6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5145-3EA4-43D8-B9E2-630E3666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8EA5B2-96A1-4217-91B3-0D119306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789A73-E79B-44CD-87D7-19BA9A49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3CC66B-DD9F-44D6-B52A-B70773EE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001B1-9657-4A59-A717-02861F1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216F34-A971-429E-AD28-AC5927B0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E02C4-2DDF-4129-9DF6-DBB5820E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2601B3-AE4A-4DA0-B453-668CF291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A5819-E605-4ED7-8CAE-27AC4611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CBAC4-FF2A-4E6E-93D7-BECF9050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F5406-5F8D-49D7-8F9B-6D8591B9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DB19-B28C-4FA3-9943-BC4193EE44A3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D205-917D-483C-B0D8-78DC5DEC69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7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9B49-F9EF-41F3-9E95-990E0A07A7D3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6E1-4C70-4071-974D-62A63248E282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7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3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3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76DD-4EC5-4AE4-BF26-345ADA07DA8E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4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3811-8CD1-42BA-A59C-FFE21AE84DF3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23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7DA5-92A9-4D7D-82BD-FD84789A94D7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080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4C73-73D2-4D55-9E22-C016815C4D8E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B648-AA9B-47E7-9137-1BC5744D8A5D}" type="slidenum">
              <a:rPr b="0" lang="ar-SA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6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0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8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D01C-AFA3-448B-BD60-4B65159BA686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30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7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1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2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DB19-E359-4091-806E-C4AFCB927C9C}" type="slidenum">
              <a:rPr b="0" lang="ar-SA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7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8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FDD3-5BBD-41B5-A3C0-ED06FF71B5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3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4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4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4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BC4-8CF6-4D95-B468-CC074A0F8F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9730-1E73-4779-AA1D-FB7C8733A0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E646-E7FE-4727-9C11-4F4697A260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8092-F5C1-49BC-8E44-9E47CEDCD9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1403280" y="259920"/>
            <a:ext cx="6337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  <a:cs typeface="Monotype Koufi"/>
              </a:rPr>
              <a:t>كيف تكون مشرفاً تربوياً  مبدع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e Outline Pat"/>
              </a:rPr>
              <a:t>محاض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أعدّها ويقدمها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حمد بن حسن الشمرا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مدير إدارة الإشراف التربو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ndalus"/>
              </a:rPr>
              <a:t>الإدارة العامة للتعليم بالعاصمة المقدس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r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7777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لثاً :  خصائص الإبداع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كتشاف علاقات  جدي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استنطاق تلك العلاقات والإفصاح عن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بط بين العلاقات الجديدة وبين العلاقات القديمة التي سبق لغيره اكتشاف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توظيف العلاقات الجديدة لتحقيق أهداف معين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إحجام عن الأخذ عن الآخرين إلا بالقدر الذي يخدم ويحقق الإبداعية لديه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31440" indent="-24264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قدرة على ملاحظة التناقضات والنواقص في البيئ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2698560" y="333360"/>
            <a:ext cx="38890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Tahoma"/>
                <a:cs typeface="Monotype Koufi"/>
              </a:rPr>
              <a:t>صفات المبد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ذه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قدرة عالية على التفكير الإبداعي ويحب التجد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تلك ذاكرة قوية في بعض الأمور ، وقادر على الإلمام بالتفاصي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تاج إلى فترات تفكير طوي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تعامل مع الأشياء المعقدة والمتنوعة والتي تحتمل أكثر من تفسي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الملاحظة الشديدة لكل المسارات والأساليب للموضوع الذي يه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ديه قدرة عالية على تلخيص الأشي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ركز على النقد البناء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826920" y="622080"/>
            <a:ext cx="69948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بالأشياء التي تحتمل الشك ولا يمكن التنبؤ 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دائم التساؤ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عدد الميول والاهتمام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قترح أفكاراً قد يعتبرها الآخرون غير معق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متع بالاستقلالية في الرأي والتفك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أل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كر بشكل أفضل في فترات الهدوء والفراغ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بطيء في تحليل المعلومات سريع في الوصول للحل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نفس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كيف بسرعة مع المتغيرات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تميز بعمله ولا يحب التقلي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تفائل  بطبيعت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تمد على أحاسيسه ومشاعره كثير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نهزم ولا يهرب من المشكلة بسر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هتم ويتحمس لأفكاره ومشروعاته الشخصية ويتبناها ويثبت وراءها حتى ينفذ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ثقة بالنفس ، والشعور بالقدرة على تنفيذ ما يريد 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ستسلم بسهول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لك قدرة كبيرة على تحمل المسؤولية في الأمور التي يحبها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بادر بالعمل ومستعد لبذل الجهد فيما يحب ، وذو طموح عالٍ جداً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7940880" cy="52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عمل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لا يحبذ القيام بالأعمال الروتين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فضل القيام بالأعمال التي تنطوي على التحد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ميل إلى المغامرة ويحب التجريب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التعامل مع المواقف الغامضة وحل المشكلات الصعب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ثابر في عمله ، و يتابع أفكاره بجدية بالرغم من معارضة الآخر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سعى دائماً لتحسين عمله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تساءل عن تطبيقات النظريات والمبادئ القائم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Akhbar MT"/>
              </a:rPr>
              <a:t>- صفات إنسانية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حساس ولديه روح الدعابة والفكاهة في ضوء ما تمليه الأخلاق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مهذب ولكنه صريح ومستقل ولا يحبذ السلطة أو التسلط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قادر على مقاومة ضغوط الجماع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عمل حتى لو قاومه الآخرو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حب الثناء والمدح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شجاع ومقدام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الانفتاح على التجارب الإنسانية والمحيط الخارج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يشعر بقدر كبير من الغبطة والسرور عندما يمارس العمل الذي يبدع في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r" rtl="1">
              <a:spcBef>
                <a:spcPts val="799"/>
              </a:spcBef>
              <a:buClr>
                <a:srgbClr val="0101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Akhbar MT"/>
              </a:rPr>
              <a:t>صبو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9900"/>
                </a:solidFill>
                <a:latin typeface="Arial"/>
                <a:cs typeface="Monotype Koufi"/>
              </a:rPr>
              <a:t>شروط الإبدا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6868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أصالة : أي قدرة الفرد على توليد أفكار جديدة 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طلاقة : أي قدرة الفرد على إنتاج كمية كبيرة من الأفكار 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ea typeface="Akhbar MT"/>
              </a:rPr>
              <a:t>	</a:t>
            </a: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في وقت محدد ( بنك القدرة الإبداعية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مرونة : أي تنوع الأفكار ( تتعلق بالكيف وليس بالكم )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حساسية : القدرة على تحسس المشكلات وإدراك طبيعتها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236520" indent="-236520" algn="r" rtl="1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Verdana"/>
                <a:cs typeface="Akhbar MT"/>
              </a:rPr>
              <a:t>الاستنباطية : القدرة على الربط بين الأفكار في الوقت ذاته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e941c"/>
                </a:solidFill>
                <a:latin typeface="Arial"/>
                <a:cs typeface="Monotype Koufi"/>
              </a:rPr>
              <a:t>تجاوز المعوقات ومواجهة التحديات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2104560" y="1676160"/>
            <a:ext cx="591516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احذر من الإيحاءات السلبي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طاقتي محدود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رأيي غير مسم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لا أستطيع مقاومة التيا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نا من النوع الذي يطبق الأوام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أخاف الإحراج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7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2123640" y="836640"/>
            <a:ext cx="5410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الج نفسك بنفسك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طاقتي أو ميولي أو هواي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كيف أستمتع بوق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توجه إلى إنسان تثق به للاستشار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ما هي إيجابياتي وسلبيات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شجع نفسك وكافئها على ما أنجزت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سخر من نفسك ، ولا تقلل من عمل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 algn="r" rtl="1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khbar MT"/>
              </a:rPr>
              <a:t>لا تحكم بسرعة على الأمو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9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28352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3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تعلم أساليب قتل الأفكار ... كي تتجنبها ( كن إيجابياً ومتفائلاً 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عود نفسك أن تساهم بفكرة ولو كانت صغيرة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5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درب نفسك على تحريك خيالك باستمرار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6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لا تحرم نفسك لذة التفكير واستخدام طاقة عقلك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7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- واصل التحدي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00"/>
                </a:solidFill>
                <a:latin typeface="Arial"/>
                <a:cs typeface="Monotype Koufi"/>
              </a:rPr>
              <a:t>أولاً مفهوم الإبدا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قال الله تعالى :</a:t>
            </a: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بديع السموات والأرض )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وجدهم لا على مثال سبق</a:t>
            </a:r>
            <a:br>
              <a:rPr sz="3200"/>
            </a:br>
            <a:br>
              <a:rPr sz="3200"/>
            </a:br>
            <a:r>
              <a:rPr b="1" lang="ar-SA" sz="3600" spc="-1" strike="noStrike">
                <a:solidFill>
                  <a:srgbClr val="e3e3ff"/>
                </a:solidFill>
                <a:latin typeface="Arial"/>
                <a:ea typeface="Akhbar MT"/>
              </a:rPr>
              <a:t>- ( قل ما كنت بدعا من الرسل وما أدري ما يفعل بي ولا بكم )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 </a:t>
            </a:r>
            <a:br>
              <a:rPr sz="3200"/>
            </a:br>
            <a:r>
              <a:rPr b="1" lang="ar-SA" sz="3200" spc="-1" strike="noStrike">
                <a:solidFill>
                  <a:srgbClr val="e3e3ff"/>
                </a:solidFill>
                <a:latin typeface="Arial"/>
                <a:ea typeface="Akhbar MT"/>
              </a:rPr>
              <a:t>	</a:t>
            </a:r>
            <a:r>
              <a:rPr b="1" lang="ar-SA" sz="3200" spc="-1" strike="noStrike">
                <a:solidFill>
                  <a:srgbClr val="e3e3ff"/>
                </a:solidFill>
                <a:latin typeface="Arial"/>
                <a:cs typeface="Akhbar MT"/>
              </a:rPr>
              <a:t>أي ما كنت أول مرسل بل سبق قبلي كثيرون من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الإشراف الإبداعي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1680" y="1703160"/>
            <a:ext cx="854064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هو ذلك النوع الذي لا يقتصر على مجرد نتاج الأحسن ، وتقديم أعلى نوع من النشاط  الجمعي ، وإنما هو حفز الهمم ، وتحريك القدرات لدى المشرف لتخريج أحسن ما لديه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  <a:cs typeface="Akhbar MT"/>
              </a:rPr>
              <a:t>أي أن هذا النوع يعمل على استثمار قدرات المعلمين وإمكاناتهم العلمية والمهنية وإلى أقصى حد ممكن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e941c"/>
                </a:solidFill>
                <a:latin typeface="Arial"/>
                <a:cs typeface="Monotype Koufi"/>
              </a:rPr>
              <a:t>صفات المشرف التربوي المبدع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مرونة التفكي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صبر واللباق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ثقة بقدراته المهنية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غبة في الاستفادة من تجارب وخب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إيمان بقدرات الآخري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 rtl="1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  <a:cs typeface="Akhbar MT"/>
              </a:rPr>
              <a:t>الرؤية الواضحة للأهداف التربوية ، والاستعداد للسير إلى أفضل السبل الموصلة لها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 فطري    ؟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ffff"/>
                </a:solidFill>
                <a:latin typeface="Tahoma"/>
                <a:cs typeface="PT Bold Dusky"/>
              </a:rPr>
              <a:t>الإبداع : مكتسب  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ff9900"/>
                </a:solidFill>
                <a:latin typeface="Garamond"/>
                <a:cs typeface="Monotype Koufi"/>
              </a:rPr>
              <a:t>شكراً لإتاحة الفرصة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ff9900"/>
                </a:solidFill>
                <a:latin typeface="Garamond"/>
                <a:cs typeface="Monotype Koufi"/>
              </a:rPr>
              <a:t>و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 rtl="1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ff9900"/>
                </a:solidFill>
                <a:latin typeface="Garamond"/>
                <a:cs typeface="Monotype Koufi"/>
              </a:rPr>
              <a:t>لحسن الإنصات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250560" y="2420640"/>
            <a:ext cx="6769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مفهوم الإبداع 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عملية الإتيان بجديد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قدرة على حل المشكلات بأساليب جديدة تعجب السامع والمشاهد 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تنظيم الأفكار وظهورها في بناء جديد انطلاقاً من عناصر موجو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 القدرة على تكوين تركيبات أو تنظيمات جديدة</a:t>
            </a:r>
            <a:r>
              <a:rPr b="0" lang="ar-SA" sz="3200" spc="-1" strike="noStrike">
                <a:solidFill>
                  <a:srgbClr val="ffffff"/>
                </a:solidFill>
                <a:latin typeface="Arial Black"/>
                <a:ea typeface="Akhbar MT"/>
              </a:rPr>
              <a:t>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9" name=""/>
          <p:cNvSpPr/>
          <p:nvPr/>
        </p:nvSpPr>
        <p:spPr>
          <a:xfrm>
            <a:off x="324000" y="308772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24000" y="34776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في اللغة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أبدعت الشيء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اخترعته على غير مثال ساب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Arial"/>
                <a:cs typeface="Akhbar MT"/>
              </a:rPr>
              <a:t>والمبدع 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هو المنشئ أو المحدث لأمر لم يسبقه إليه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khbar MT"/>
              </a:rPr>
              <a:t>     أحد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e103"/>
                </a:solidFill>
                <a:latin typeface="Arial Black"/>
                <a:cs typeface="PT Bold Stars"/>
              </a:rPr>
              <a:t>مصطلحات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978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خيال : هو التصور أو التوهم لشيء غير موجود </a:t>
            </a:r>
            <a:r>
              <a:rPr b="1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(أول خطوات الإبداع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بتكار : هو الإبداع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ختراع : الإبداع العلمي ( طائرة ، كمبيوتر ، صاروخ ، 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اكتشاف : كشف شيء موجود في الطبيعة وكيفية استعماله وتصنيعه 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	</a:t>
            </a:r>
            <a:r>
              <a:rPr b="1" lang="en-US" sz="3400" spc="-1" strike="noStrike">
                <a:solidFill>
                  <a:srgbClr val="ffcc00"/>
                </a:solidFill>
                <a:latin typeface="Arial Black"/>
                <a:ea typeface="Akhbar MT"/>
              </a:rPr>
              <a:t>( المغناطيس، الكهرباء ، .....)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ذكاء : سرعة الفهم والاستنتاج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بة : قدرة خاصة تجعل المرء يتقن في مجال الموهبة 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257040" indent="-257040" algn="r" rtl="1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ffcc00"/>
                </a:solidFill>
                <a:latin typeface="Arial Black"/>
                <a:cs typeface="Akhbar MT"/>
              </a:rPr>
              <a:t>الموهوب ، والعبقري ، والمتفوق عقلياً : صفات لمن نسب ذكائهم عالية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66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hi-IN" sz="4800" spc="-1" strike="noStrike">
                <a:solidFill>
                  <a:srgbClr val="ffcc00"/>
                </a:solidFill>
                <a:latin typeface="Arial Black"/>
                <a:cs typeface="Monotype Koufi"/>
              </a:rPr>
              <a:t>ثانياً : دوافع الإبداع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4400"/>
            </a:br>
            <a:br>
              <a:rPr sz="3600"/>
            </a:br>
            <a:r>
              <a:rPr b="1" lang="hi-IN" sz="4400" spc="-1" strike="noStrike">
                <a:solidFill>
                  <a:srgbClr val="ffe103"/>
                </a:solidFill>
                <a:latin typeface="Arial Black"/>
                <a:cs typeface="Akhbar MT"/>
              </a:rPr>
              <a:t>يمكن تصنيف هذه الدوافع إلى ما يلي :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 دوافع ذاتية داخل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بيئية خارج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مادية ومعنوية</a:t>
            </a:r>
            <a:br>
              <a:rPr sz="4400"/>
            </a:b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	</a:t>
            </a:r>
            <a:r>
              <a:rPr b="1" lang="en-US" sz="4400" spc="-1" strike="noStrike">
                <a:solidFill>
                  <a:srgbClr val="ffe103"/>
                </a:solidFill>
                <a:latin typeface="Arial Black"/>
                <a:ea typeface="Akhbar MT"/>
              </a:rPr>
              <a:t>- دوافع خاصة بالعمل الإبداعية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321300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250560" y="2349360"/>
            <a:ext cx="78469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1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ذاتية الداخل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ماس في تحقيق الأهداف الشخصية ( يكون مفيداً للمجتمع )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قديم مساهمة مبتكرة وقيمة وصياغة جديدة مبتكرة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معالجة الأشياء الغامضة والمعقد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رغبة في تجريب أكثر في مجال العمل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86800" indent="-22572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  <a:ea typeface="Akhbar MT"/>
              </a:rPr>
              <a:t> الحصول على رضا النفس وتحقيق الذات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611280" y="2122560"/>
            <a:ext cx="726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2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 الدوافع البيئية الخارج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اجة إليه في مجالات العمل المختلف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يوية والنمو يحتاجان إلى ومضة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تصدي للمشكلات العامة والخاصة يتطلب الإبداع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نا في عالم سريع التغير ويحتاج إلى صنع الأحداث بطريقة 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94360" indent="-22860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إن التقدم والازدهار مرتبطان بقدراتنا الإبداع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1258920" y="1341360"/>
            <a:ext cx="5973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- الدوافع المادية والمعنوية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كافآت مالي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تقدير وثناء وسمعة وشهر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مرتبة علمية مرموق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درجة وظيفية متقدمة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قبول الناس ورضاهم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خدمة الأمة أو الوطن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549720" indent="-211320" algn="r" rtl="1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حصول على رضا الله سبحانه وتعالى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  <a:ea typeface="Akhbar MT"/>
              </a:rPr>
              <a:t> 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/>
          </p:nvPr>
        </p:nvSpPr>
        <p:spPr>
          <a:xfrm>
            <a:off x="539640" y="2773080"/>
            <a:ext cx="698040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4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  <a:ea typeface="Andalus"/>
              </a:rPr>
              <a:t> - الدوافع الخاصة بالعمل الإبداعي 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lvl="1" marL="623880" indent="-239760" algn="r" rtl="1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00"/>
                </a:solidFill>
                <a:latin typeface="Arial Black"/>
                <a:cs typeface="Akhbar MT"/>
              </a:rPr>
              <a:t>الرغبة الشديدة في إيجاد الفكرة والحصول عليها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push dir="r"/>
    <p:sndAc>
      <p:stSnd>
        <p:snd r:embed="rId1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16:55:50Z</dcterms:created>
  <dc:creator>Compaq User</dc:creator>
  <dc:description/>
  <dc:language>en-US</dc:language>
  <cp:lastModifiedBy>O</cp:lastModifiedBy>
  <dcterms:modified xsi:type="dcterms:W3CDTF">2003-04-06T21:42:46Z</dcterms:modified>
  <cp:revision>24</cp:revision>
  <dc:subject/>
  <dc:title>الشريحة 1</dc:title>
</cp:coreProperties>
</file>