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9A7AF-590A-4F83-871A-C7209997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A65C-3F4B-4EEE-A841-CD6C1361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82FA5-34B3-474F-8497-9A9B7C10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07A38-BA51-484C-B4D0-ED1D0BB9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F60B5-CCDF-4293-AC39-69A76D1C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5C030-D484-4874-840C-6C3DAD10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A42EA-C5D5-4F30-9142-41C8A58A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C6434-033D-4DD2-8A53-09186E7F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6F78A-DDA9-4F09-9365-6BAF7302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9F248-135E-4E2E-AA8F-7D982228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DC337-D27D-476E-B311-9A41FF59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9916B-2393-4FF2-B8C0-5DDFF5C5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053F-1672-474B-A772-1DA90047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8B280-317F-4EDB-A410-5AAF85AD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0D9BB-C284-46B6-9CDC-27A9732B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99175-1152-4482-8F29-F658B6C0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3642F-061B-4161-8A25-60ACA248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02941-BFC2-4D82-BADA-31692216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5F82D-410A-475F-9DE8-9FEAE2C6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9CA84-A67B-4317-90D5-105EDF1F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A0446-9E0D-43F5-A5F5-CBB4097F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7A572-88FE-4397-AC2E-5FA9D5DE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EE065-E0DD-463E-B29E-72EB8119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31D7-3C28-4279-95ED-58BCD257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44215-AB48-4FD5-92D5-57EA78FE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4F383-ACB6-4E35-A77D-3EFF7D3A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13C1A-A402-4845-9C4B-C73A68A5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10A91-70DB-4FF0-843D-D03663CC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C4AC1-16C2-4ACB-8E5C-53BB53FD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A7696-ACCE-4EA6-957F-8C16A2F6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26C83-8062-4411-82EB-4ACEDDA8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3D8C3-63FF-429E-99EB-938F5C8B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A7550-2059-458B-9154-B6B872DF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02AF6-52D8-4AFB-9C41-087CE163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594B-FB3A-473C-9093-ABB54F8D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7D273-8103-4FA8-B3DB-30C52911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E63E4-CC77-48D2-B58E-53BE8EE3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0EEBB-EC1A-4153-B718-7B3CF97E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2E0F6-3DC1-40D1-8B65-7BBCBC10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2F4B8-EEEC-4CB0-9B46-B20AB4BA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056C1-683C-4FB7-9566-F9F1C803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60372-6ED3-40AB-AA89-52D3EB6B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2A8A0-7E79-4DD3-878E-13E4BA99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193D4-5980-4CCB-AEDC-56CC589E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000CD-9624-4EB7-B082-F4F4FFA1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3985-6C2C-477B-9743-9B5FACE6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74191-020F-457F-9BB3-E1F8BA75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F8C57-CB79-4A2B-B1BE-1E2CAD7D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C8928-40BC-48BF-AC3E-21496F42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34A88-948B-45F7-AB9D-6275C2A2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B6E06-DC24-4871-AE8B-FEC4E609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723A0-619F-473E-BFD6-D97CBE62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91151-E211-40F9-9A86-0909D273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1FBB7-4E00-4B8D-83AB-6042F79E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E8B35-5365-4870-B237-17B17623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C04D1-3705-4B92-AA63-FB05776D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B31A-EAB1-4081-8964-6C332A74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F1B5C-7697-443E-89A5-9C2B4DED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A5533-86C5-447A-AEB6-1F021D6E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25BDA-8C2E-4487-949A-7658D9E1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C9B70-12F2-4DB5-B2ED-3B46254F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1B251-9B1C-41A3-BB58-172CA128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CCC25-31E6-467B-ACC0-C896EDCF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FCFC0-147E-478D-8757-04B309D6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A183C-035C-4351-9646-E6D24A04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D3D78-F3C3-45FB-9C34-26AD14A8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DBB906-9D6F-4E3A-A111-77FA4CD2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3889-0B73-48D5-A8AC-31391BA8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8D5A1-BF81-4726-93B9-4007AE05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B9A2B-9AF9-4EE3-82B1-2FF71DED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13A05-F14A-4898-B432-9A93C90F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D77F4-19FC-497E-AD34-0C1BBC88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4CDC4-0D37-42F0-86E1-7A8DAF52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89F549-5E1C-4D37-B9E1-2AFFBB5E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40769C-E33A-4953-8CC8-F3CC3A73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3AEB7C-61A8-4CA8-BF2C-1A486769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39A5C6-3C71-49D4-B3DE-4B8DAC34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90D29-9D5E-48B3-92E1-F06AB217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F9F7-E202-47AB-8E6B-9F5A5540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9A39F-5FFB-40BA-AE64-43160181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1E122-3DF2-4B24-84B9-9E930585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C18025-C94D-4F38-93FB-64F226C4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9B33AA-F805-4EE4-8175-C8DE5855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4A886-31C9-4774-BE95-646885F8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311158-8F27-4AA8-AAA1-DD4900AF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F97CA-AD43-417C-8D63-36B5A5B7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CADC01-D5EE-4CB7-9952-04D217B8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41E2E-B2C0-481B-8DB2-86D67088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28A08-CCB5-482B-B1FE-C991D6D8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4494-B9F1-4D25-84F6-D696AEA1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17A02-B8D4-4B31-809B-D1310811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28BEC5-2FE2-4E09-9F8C-265F018D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F703E-98D3-46CC-BAAC-43EDF584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1C8D6-5672-4A3E-B061-4C470DF1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85B379-F19D-4992-A164-7BC88544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1BEE2D-00F1-4AB6-AC77-4E44EB10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A62850-42AE-428C-9A30-72CEB30A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45B9AA-00CE-4ED8-8172-F72B1FEE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802829-3EBD-4117-A297-52E15D9C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1E1B8-8B38-42D8-9FEC-AD7B7387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4137-03ED-42D5-BBBD-CD99C58F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A56EDC-0496-4647-A879-47B51476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3A3FDC-C2B3-44AD-B120-D01FE4EB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A7646B-F543-4526-8B54-F2C1396B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45D5B-A537-43B0-837E-7FB80FE6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E4F0-C77B-44D3-BEBE-9304E3E9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8385-BFB5-4AD1-84D1-3F2A0A9C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AAED-BB3D-43A3-901A-4A1FA260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E9FD-7473-436E-9E9B-0FAFBA8A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9429-0BF5-4FFE-A47B-539D0646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02D7-8B31-4F47-BDE7-F1643D62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2EB08-24D8-4E6E-B9B7-8FC5FF62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7CE1-CE79-4226-B75D-8FD157A0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0903A-24E3-4C7C-B2C0-1D752F2C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ACE1-3AB4-4B5C-9A78-D29091C3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339E-3B58-4C5E-8C47-5CA47320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9B1E4-F9C2-4AF3-B742-5AD0B39D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AA0D-7B58-4410-945A-4D01DB7C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AF0E-2DD2-4BEE-8BDC-1D156512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E7169-4921-4B12-BB5C-2AD7CC2B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EEC56-F608-4041-9A8B-A0A0F6B3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12828-A2FB-4FD9-987F-8E485FE0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AA24-B886-4D28-80B2-D5FED1CD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BF034-5099-4BB4-B31A-3AB974D7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712E2-51C8-4EA9-9095-E5CC176E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A7933-7EE9-4BC9-B79B-A0D40B86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C1DC-489C-4C5E-912E-ABD4B9A6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9B927-689E-4D9F-8861-84C7D09B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2097A-2B13-41B4-A39E-1A191285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B0FD8-27F3-4870-9195-CEC7E78D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328C7-FAD6-4E54-9F96-46BA01A6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9197A-AB67-42CB-BDF6-962C2973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732D7-30E0-4E00-834A-8783CF72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84280-1F23-491A-B456-AAF50041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11A77-9AE7-4199-BAD5-96C5C176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B879E-55F8-4985-AC1E-F0383324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5286B-4524-43DA-ABD6-8BFBFE0D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FE804-FD11-4EFD-88EA-546F5BC2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EA792-B84C-4C56-85D2-60493689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96B75-2CC5-4567-909E-66463E7F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4BA9F-55DE-4DAA-863A-47C75D2D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C4C7F-A60F-4523-99D7-87F37E61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FACA0-3903-4819-9D33-C0F3FD8E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66497-37DA-4350-897E-81FC3F9A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E8337-A8B8-42F6-9677-603FBB23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31BF7-EA98-4067-A5CE-251CF46C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F2763-73C8-45B0-9FDF-704A345C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9CD0C-C208-415C-AA28-9FDC2811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900B5-0C37-4310-9376-22AA0A92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6E05D-72F3-42CE-977A-8629C94D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CFAA9A-E2D1-4A6C-B14F-7BA9EFCA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A0178F-2445-4616-A362-D3A524DF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AC683-1307-4A8E-8E56-53199AD0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4A170-15A2-442B-9CC2-2A2FF942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581F2-E4F5-42E3-AC10-28532855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B4251-55F8-4AF6-9AD3-C9B0142E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3F2FCE-CF87-45C9-A2FF-49FBDDAC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59A3E-536C-4A86-843C-2896503F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8A1DDC-4C1E-4BD7-81C7-40A2F0B8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A7CC0-CC8F-4BCC-82AD-24B62DAE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EB809E-8406-414F-B345-CB2D5C34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60C1D-3B6A-4725-8251-3C8F7258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CDC14-FD5C-4043-9B6F-84C80F39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405C0-9F9C-4150-A1F5-0EE05AA1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E76AC-8B45-4E21-AB19-6CA71F5D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03131-5909-4A69-AB47-B357058C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8E504-5F20-4F28-BBAF-9EA95445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9AB26-CB60-4117-A206-37C2B9BC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6C88D-C66B-422C-8EE1-66922FC8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92F07-5524-4D90-954C-1FBC36DC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CDC1-1D73-4377-8FD1-065C7F91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88ABB-27C6-4546-B894-D2D8C3F0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2D515-2A31-4423-8B16-8E51534C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305E3-62F4-45EF-913D-12911056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678FD-B247-474B-A666-B2D78F2C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81B54-5EA3-48FE-98F2-A4D27034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1157F2-B7E6-47F4-AC46-4BABF07F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4D07E9-EAD4-476C-8E1F-ED1F6CAC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E4E0AD-1BB8-4046-86FE-19D5024A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CA1090-DA66-45C6-98C3-73B9A27D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7D1577-199E-425E-886D-4F98AC20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A9112-F62F-4B70-9C3B-89B94DEB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D3BF1C-F5B4-4984-A9F8-1B6B093E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6209D3-1E1F-49AF-B0AC-92E80C78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D13D90-0443-4F66-AE74-E34BFFDB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AA01A5-5337-4FAF-B822-05CE2B3D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56F128-DBFC-40CE-9E38-19A289FA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076231-8F05-4DAC-A984-E4BE720D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6FAA99-FA5E-48D7-B893-45B1ADCF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A46D7-98B3-404A-B293-882130A9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B3683-F4A7-40D5-8253-68231A35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55600-405B-45EF-829D-3C418263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DDDA-2BD2-4742-96F0-3ED7DF1D4683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5B9C-D097-49C4-9011-0A684FB3CA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5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54F6-FFEC-4929-84E6-94E173BF884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1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ABB9-AF5E-45C8-ADA2-5B267B9F131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7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D9BF-04D7-4DB4-9717-ED5CB064FE30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4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B37C-6F0C-41DD-A43C-38594E993CF4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2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A985-0E1B-411B-8F02-B285115DE721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8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3B92-5FA3-44AD-A2B4-954E6D0AF2DA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E032-6767-4450-88F0-99C63606E0BE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A3EC-472C-4FDC-B169-D55B0D9A968F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B07C-41DE-4C95-8AB4-BA0C34E0C6F6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6225-10AA-4079-B5A4-136F08C28B7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3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4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4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DD83-D637-4C72-95E3-23AF6D5F95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0A70-3E0C-407F-ADEA-04F0912136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666A-3F1A-4A9D-B13A-1DBB585F45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2E05-A009-4C1C-A0BE-15699865ED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7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/>
          </p:nvPr>
        </p:nvSpPr>
        <p:spPr>
          <a:xfrm>
            <a:off x="1403280" y="259920"/>
            <a:ext cx="633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cs typeface="Monotype Koufi"/>
              </a:rPr>
              <a:t>كيف تكون مشرفاً تربوياً  مبدعا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e Outline Pat"/>
              </a:rPr>
              <a:t>محاض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أعدّها ويقدمها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محمد بن حسن الشمرا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مدير إدارة الإشراف التربو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الإدارة العامة للتعليم بالعاصمة المقدس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7777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cc00"/>
                </a:solidFill>
                <a:latin typeface="Arial Black"/>
                <a:cs typeface="Monotype Koufi"/>
              </a:rPr>
              <a:t>ثالثاً :  خصائص الإبداع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اكتشاف علاقات  جدي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استنطاق تلك العلاقات والإفصاح عن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ربط بين العلاقات الجديدة وبين العلاقات القديمة التي سبق لغيره اكتشاف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توظيف العلاقات الجديدة لتحقيق أهداف معين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إحجام عن الأخذ عن الآخرين إلا بالقدر الذي يخدم ويحقق الإبداعية لديه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ملاحظة التناقضات والنواقص في البيئ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2698560" y="333360"/>
            <a:ext cx="38890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  <a:cs typeface="Monotype Koufi"/>
              </a:rPr>
              <a:t>صفات المبد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ذهن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تلك قدرة عالية على التفكير الإبداعي ويحب التجد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تلك ذاكرة قوية في بعض الأمور ، وقادر على الإلمام بالتفاصي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تاج إلى فترات تفكير طوي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ضل التعامل مع الأشياء المعقدة والمتنوعة والتي تحتمل أكثر من تفسي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تمد على الملاحظة الشديدة لكل المسارات والأساليب للموضوع الذي يه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ديه قدرة عالية على تلخيص الأشي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ركز على النقد البن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/>
          </p:nvPr>
        </p:nvSpPr>
        <p:spPr>
          <a:xfrm>
            <a:off x="826920" y="622080"/>
            <a:ext cx="69948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هتم بالأشياء التي تحتمل الشك ولا يمكن التنبؤ ب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دائم التساؤ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تعدد الميول والاهتمام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قترح أفكاراً قد يعتبرها الآخرون غير معقو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تمتع بالاستقلالية في الرأي والتفكي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سأل كثير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كر بشكل أفضل في فترات الهدوء والفراغ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بطيء في تحليل المعلومات سريع في الوصول للح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نفس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التكيف بسرعة مع المتغير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ب التميز بعمله ولا يحب التقل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تفائل  بطبيعت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تمد على أحاسيسه ومشاعره كثير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نهزم ولا يهرب من المشكلة بسرع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هتم ويتحمس لأفكاره ومشروعاته الشخصية ويتبناها ويثبت وراءها حتى ينفذ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الثقة بالنفس ، والشعور بالقدرة على تنفيذ ما يريد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ستسلم بسهو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لك قدرة كبيرة على تحمل المسؤولية في الأمور التي يحب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بادر بالعمل ومستعد لبذل الجهد فيما يحب ، وذو طموح عالٍ جد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794088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ea typeface="Akhbar MT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عمل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حبذ القيام بالأعمال الروتين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ضل القيام بالأعمال التي تنطوي على التحد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يل إلى المغامرة ويحب التجريب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التعامل مع المواقف الغامضة وحل المشكلات الصعب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ثابر في عمله ، و يتابع أفكاره بجدية بالرغم من معارضة الآخري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سعى دائماً لتحسين عمل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تساءل عن تطبيقات النظريات والمبادئ القائم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إنسان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حساس ولديه روح الدعابة والفكاهة في ضوء ما تمليه الأخلاق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هذب ولكنه صريح ومستقل ولا يحبذ السلطة أو التسلط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مقاومة ضغوط الجماع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مل حتى لو قاومه الآخرو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ب الثناء والمدح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شجاع ومقدا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الانفتاح على التجارب الإنسانية والمحيط الخارج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شعر بقدر كبير من الغبطة والسرور عندما يمارس العمل الذي يبدع في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صبو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9900"/>
                </a:solidFill>
                <a:latin typeface="Arial"/>
                <a:cs typeface="Monotype Koufi"/>
              </a:rPr>
              <a:t>شروط الإبداع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68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أصالة : أي قدرة الفرد على توليد أفكار جديدة 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طلاقة : أي قدرة الفرد على إنتاج كمية كبيرة من الأفكار 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في وقت محدد ( بنك القدرة الإبداعية )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مرونة : أي تنوع الأفكار ( تتعلق بالكيف وليس بالكم )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حساسية : القدرة على تحسس المشكلات وإدراك طبيعتها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استنباطية : القدرة على الربط بين الأفكار في الوقت ذاته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e941c"/>
                </a:solidFill>
                <a:latin typeface="Arial"/>
                <a:cs typeface="Monotype Koufi"/>
              </a:rPr>
              <a:t>تجاوز المعوقات ومواجهة التحديات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104560" y="1676160"/>
            <a:ext cx="59151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احذر من الإيحاءات السلبي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طاقتي محدود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رأيي غير مسم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لا أستطيع مقاومة التيا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من النوع الذي يطبق الأوام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خاف الإحراج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7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/>
          </p:nvPr>
        </p:nvSpPr>
        <p:spPr>
          <a:xfrm>
            <a:off x="2123640" y="836640"/>
            <a:ext cx="5410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عالج نفسك بنفسك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ما هي طاقتي أو ميولي أو هواي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كيف أستمتع بوق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توجه إلى إنسان تثق به للاستشار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ما هي إيجابياتي وسلبيا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شجع نفسك وكافئها على ما أنجزت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لا تسخر من نفسك ، ولا تقلل من عملك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لا تحكم بسرعة على الأمو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9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28352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تعلم أساليب قتل الأفكار ... كي تتجنبها ( كن إيجابياً ومتفائلاً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عود نفسك أن تساهم بفكرة ولو كانت صغيرة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درب نفسك على تحريك خيالك باستمرار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6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لا تحرم نفسك لذة التفكير واستخدام طاقة عقلك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7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واصل التحدي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00"/>
                </a:solidFill>
                <a:latin typeface="Arial"/>
                <a:cs typeface="Monotype Koufi"/>
              </a:rPr>
              <a:t>أولاً مفهوم الإبدا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قال الله تعالى :</a:t>
            </a:r>
            <a:br>
              <a:rPr sz="3200"/>
            </a:br>
            <a:r>
              <a:rPr b="1" lang="ar-SA" sz="3600" spc="-1" strike="noStrike">
                <a:solidFill>
                  <a:srgbClr val="e3e3ff"/>
                </a:solidFill>
                <a:latin typeface="Arial"/>
                <a:ea typeface="Akhbar MT"/>
              </a:rPr>
              <a:t>- (بديع السموات والأرض )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أي موجدهم لا على مثال سبق</a:t>
            </a:r>
            <a:br>
              <a:rPr sz="3200"/>
            </a:br>
            <a:br>
              <a:rPr sz="3200"/>
            </a:br>
            <a:r>
              <a:rPr b="1" lang="ar-SA" sz="3600" spc="-1" strike="noStrike">
                <a:solidFill>
                  <a:srgbClr val="e3e3ff"/>
                </a:solidFill>
                <a:latin typeface="Arial"/>
                <a:ea typeface="Akhbar MT"/>
              </a:rPr>
              <a:t>- ( قل ما كنت بدعا من الرسل وما أدري ما يفعل بي ولا بكم )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  <a:ea typeface="Akhbar MT"/>
              </a:rPr>
              <a:t> 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أي ما كنت أول مرسل بل سبق قبلي كثيرون منه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e941c"/>
                </a:solidFill>
                <a:latin typeface="Arial"/>
                <a:cs typeface="Monotype Koufi"/>
              </a:rPr>
              <a:t>الإشراف الإبداعي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1680" y="1703160"/>
            <a:ext cx="85406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هو ذلك النوع الذي لا يقتصر على مجرد نتاج الأحسن ، وتقديم أعلى نوع من النشاط  الجمعي ، وإنما هو حفز الهمم ، وتحريك القدرات لدى المشرف لتخريج أحسن ما لديه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أي أن هذا النوع يعمل على استثمار قدرات المعلمين وإمكاناتهم العلمية والمهنية وإلى أقصى حد ممكن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ee941c"/>
                </a:solidFill>
                <a:latin typeface="Arial"/>
                <a:cs typeface="Monotype Koufi"/>
              </a:rPr>
              <a:t>صفات المشرف التربوي المبدع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مرونة التفكي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صبر واللباق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ثقة بقدراته المهن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رغبة في الاستفادة من تجارب وخبرات الآ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إيمان بقدرات الآ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رؤية الواضحة للأهداف التربوية ، والاستعداد للسير إلى أفضل السبل الموصلة لها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ffff"/>
                </a:solidFill>
                <a:latin typeface="Tahoma"/>
                <a:cs typeface="PT Bold Dusky"/>
              </a:rPr>
              <a:t>الإبداع :  فطري    ؟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ffff"/>
                </a:solidFill>
                <a:latin typeface="Tahoma"/>
                <a:cs typeface="PT Bold Dusky"/>
              </a:rPr>
              <a:t>الإبداع : مكتسب  ؟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9900"/>
                </a:solidFill>
                <a:latin typeface="Garamond"/>
                <a:cs typeface="Monotype Koufi"/>
              </a:rPr>
              <a:t>شكراً لإتاحة الفرصة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9900"/>
                </a:solidFill>
                <a:latin typeface="Garamond"/>
                <a:cs typeface="Monotype Koufi"/>
              </a:rPr>
              <a:t>و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9900"/>
                </a:solidFill>
                <a:latin typeface="Garamond"/>
                <a:cs typeface="Monotype Koufi"/>
              </a:rPr>
              <a:t>لحسن الإنصات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250560" y="2420640"/>
            <a:ext cx="67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 Black"/>
                <a:ea typeface="Akhbar MT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مفهوم الإبداع 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عملية الإتيان بجديد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قدرة على حل المشكلات بأساليب جديدة تعجب السامع والمشاهد 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 تنظيم الأفكار وظهورها في بناء جديد انطلاقاً من عناصر موجو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 القدرة على تكوين تركيبات أو تنظيمات جديدة</a:t>
            </a:r>
            <a:r>
              <a:rPr b="0" lang="ar-SA" sz="3200" spc="-1" strike="noStrike">
                <a:solidFill>
                  <a:srgbClr val="ffffff"/>
                </a:solidFill>
                <a:latin typeface="Arial Black"/>
                <a:ea typeface="Akhbar MT"/>
              </a:rPr>
              <a:t>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9" name=""/>
          <p:cNvSpPr/>
          <p:nvPr/>
        </p:nvSpPr>
        <p:spPr>
          <a:xfrm>
            <a:off x="324000" y="308772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24000" y="347760"/>
            <a:ext cx="68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khbar MT"/>
              </a:rPr>
              <a:t>في اللغ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أبدعت الشيء 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اخترعته على غير مثال ساب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khbar MT"/>
              </a:rPr>
              <a:t>والمبدع 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هو المنشئ أو المحدث لأمر لم يسبقه إليه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  أحد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e103"/>
                </a:solidFill>
                <a:latin typeface="Arial Black"/>
                <a:cs typeface="PT Bold Stars"/>
              </a:rPr>
              <a:t>مصطلحات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7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خيال : هو التصور أو التوهم لشيء غير موجود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  <a:ea typeface="Akhbar MT"/>
              </a:rPr>
              <a:t>(أول خطوات الإبداع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بتكار : هو الإبداع 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ختراع : الإبداع العلمي ( طائرة ، كمبيوتر ، صاروخ ، ....)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كتشاف : كشف شيء موجود في الطبيعة وكيفية استعماله وتصنيعه 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	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	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( المغناطيس، الكهرباء ، .....)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ذكاء : سرعة الفهم والاستنتاج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موهبة : قدرة خاصة تجعل المرء يتقن في مجال الموهبة 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موهوب ، والعبقري ، والمتفوق عقلياً : صفات لمن نسب ذكائهم عالية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6696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hi-IN" sz="4800" spc="-1" strike="noStrike">
                <a:solidFill>
                  <a:srgbClr val="ffcc00"/>
                </a:solidFill>
                <a:latin typeface="Arial Black"/>
                <a:cs typeface="Monotype Koufi"/>
              </a:rPr>
              <a:t>ثانياً : دوافع الإبداع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br>
              <a:rPr sz="3600"/>
            </a:br>
            <a:r>
              <a:rPr b="1" lang="hi-IN" sz="4400" spc="-1" strike="noStrike">
                <a:solidFill>
                  <a:srgbClr val="ffe103"/>
                </a:solidFill>
                <a:latin typeface="Arial Black"/>
                <a:cs typeface="Akhbar MT"/>
              </a:rPr>
              <a:t>يمكن تصنيف هذه الدوافع إلى ما يلي :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 دوافع ذاتية داخل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بيئية خارج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مادية ومعنو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خاصة بالعمل الإبداعية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4" name=""/>
          <p:cNvSpPr/>
          <p:nvPr/>
        </p:nvSpPr>
        <p:spPr>
          <a:xfrm>
            <a:off x="324000" y="3213000"/>
            <a:ext cx="84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250560" y="2349360"/>
            <a:ext cx="7846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1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الدوافع الذاتية الداخل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حماس في تحقيق الأهداف الشخصية ( يكون مفيداً للمجتمع )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تقديم مساهمة مبتكرة وقيمة وصياغة جديدة مبتكرة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معالجة الأشياء الغامضة والمعق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تجريب أكثر في مجال العمل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حصول على رضا النفس وتحقيق الذات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611280" y="2122560"/>
            <a:ext cx="726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2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 الدوافع البيئية الخارج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اجة إليه في مجالات العمل المختلف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يوية والنمو يحتاجان إلى ومضة الإبداع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تصدي للمشكلات العامة والخاصة يتطلب الإبداع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إننا في عالم سريع التغير ويحتاج إلى صنع الأحداث بطريقة إبداع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إن التقدم والازدهار مرتبطان بقدراتنا الإبداع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1258920" y="1341360"/>
            <a:ext cx="5973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الدوافع المادية والمعنو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مكافآت مال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تقدير وثناء وسمعة وشهر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مرتبة علمية مرموق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درجة وظيفية متقدم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قبول الناس ورضاهم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خدمة الأمة أو الوطن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رضا الله سبحانه وتعالى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Akhbar MT"/>
              </a:rPr>
              <a:t> 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/>
          </p:nvPr>
        </p:nvSpPr>
        <p:spPr>
          <a:xfrm>
            <a:off x="539640" y="2773080"/>
            <a:ext cx="69804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4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 - الدوافع الخاصة بالعمل الإبداعي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623880" indent="-2397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رغبة الشديدة في إيجاد الفكرة والحصول علي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6:55:50Z</dcterms:created>
  <dc:creator>Compaq User</dc:creator>
  <dc:description/>
  <dc:language>en-US</dc:language>
  <cp:lastModifiedBy>O</cp:lastModifiedBy>
  <dcterms:modified xsi:type="dcterms:W3CDTF">2003-04-06T21:42:46Z</dcterms:modified>
  <cp:revision>24</cp:revision>
  <dc:subject/>
  <dc:title>الشريحة 1</dc:title>
</cp:coreProperties>
</file>