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978B-1310-4009-BF95-A4C565544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7766-769A-4E1A-A85A-6511C8AD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149A-D4A4-48B7-A4F1-5B1F5CD28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71E7-75FD-4DD9-AFE6-99BFC9CAA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3576-7720-4EE6-9837-946E67BB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1EE7-FD97-4408-B99C-AEA68FCF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6370-6364-4B4E-A0B8-AE7A657C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B6BA-BB0F-42C6-891D-AFA37774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6B89-777A-45C7-87E3-635CF96F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86B5-5DAB-4999-9BC2-6F2A8E77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72D1-BE5B-42BD-ABDC-CCB7AE14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BB29-285F-466A-A3E0-2090D421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F394-2AA7-4291-A3F5-36FB101F2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04920" y="76320"/>
          <a:ext cx="8610480" cy="65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320"/>
                    <a:ext cx="8610480" cy="65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2316240" y="228600"/>
          <a:ext cx="485928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6240" y="228600"/>
                    <a:ext cx="48592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263680" y="533520"/>
          <a:ext cx="450072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3680" y="533520"/>
                    <a:ext cx="45007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517840" y="609480"/>
          <a:ext cx="441648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7840" y="609480"/>
                    <a:ext cx="441648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04920" y="452520"/>
          <a:ext cx="8229600" cy="59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2520"/>
                    <a:ext cx="8229600" cy="59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417760" y="304920"/>
          <a:ext cx="464040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7760" y="304920"/>
                    <a:ext cx="46404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76400" y="0"/>
            <a:ext cx="5605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0" y="565200"/>
          <a:ext cx="9144000" cy="57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65200"/>
                    <a:ext cx="9144000" cy="57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473120" y="291960"/>
          <a:ext cx="6197760" cy="627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3120" y="291960"/>
                    <a:ext cx="619776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16320" y="228600"/>
            <a:ext cx="47066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2:45:56Z</dcterms:created>
  <dc:creator>tahir</dc:creator>
  <dc:description/>
  <dc:language>en-US</dc:language>
  <cp:lastModifiedBy>tahir</cp:lastModifiedBy>
  <dcterms:modified xsi:type="dcterms:W3CDTF">2006-02-07T12:47:47Z</dcterms:modified>
  <cp:revision>1</cp:revision>
  <dc:subject/>
  <dc:title>الشريحة 1</dc:title>
</cp:coreProperties>
</file>