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14B3-7A41-4E28-954B-146937CD7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5CC8-DF3E-4E7B-9BE5-2F1E7A9C0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3D06-6467-44D4-A256-7F9B4ACF8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CB07-913F-4701-9EF7-15EC79C07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22CB-FFFB-4EC4-92B2-ED08DA367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A554-3A1A-4575-9324-0C1A72DDD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7BA8-6188-4FAB-869C-E40A2FD44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2AB6-9DF9-4EB1-AE20-FB5781940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3A2B-4003-48A3-982C-40D70C5C4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CB7E-44F5-4149-9642-5B2526A94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48E3-02EB-49B6-8070-6032D1B94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CFDF-CF0F-4B0F-988A-B91177324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EC6D9-B798-420D-9506-B36DEE7F30D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128680" y="380880"/>
          <a:ext cx="5015160" cy="594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8680" y="380880"/>
                    <a:ext cx="501516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54380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214280" y="52560"/>
          <a:ext cx="6716880" cy="675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52560"/>
                    <a:ext cx="6716880" cy="675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9200" y="1125360"/>
            <a:ext cx="8607600" cy="460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366920" y="423720"/>
            <a:ext cx="6410160" cy="601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343240" y="147600"/>
            <a:ext cx="4457520" cy="65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2680" y="1450800"/>
            <a:ext cx="8378640" cy="42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676520" y="431640"/>
            <a:ext cx="6172200" cy="564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14400" y="1422360"/>
            <a:ext cx="7620120" cy="27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7112160" cy="26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7T12:48:38Z</dcterms:created>
  <dc:creator>tahir</dc:creator>
  <dc:description/>
  <dc:language>en-US</dc:language>
  <cp:lastModifiedBy>tahir</cp:lastModifiedBy>
  <dcterms:modified xsi:type="dcterms:W3CDTF">2006-02-07T12:49:03Z</dcterms:modified>
  <cp:revision>1</cp:revision>
  <dc:subject/>
  <dc:title>الشريحة 1</dc:title>
</cp:coreProperties>
</file>