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057DF-611F-4564-A33A-981ADFA4D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996B9-1A34-4412-99E9-39DE2C43E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119E3-B867-47FE-8866-4648C9155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87A58-61A0-40E1-AB7A-F6FCDD648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0C408-D7F9-47C7-9CC5-C8669C30E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4F544-9E67-4351-93DB-0E22545CB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FECB0-E973-4D99-93E4-F6F6AC81C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E4AE5-CBC2-4442-A57B-30C7C3CE2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50250-E86C-496D-9CED-24D7C7E7C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1554F-7D70-4720-81FC-7ECE4785D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D4C1C-807F-407B-B376-7C7F62AA1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23F09-DE33-4B11-B5C6-CF47A7775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7A03C-FD6B-49E0-8903-95CE3D1D6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73123-AF77-470D-9A87-65A026483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85C0D-A8E3-4569-A80C-09BCD9B18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A1777-7E7E-4E1D-A054-E59D042C9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D2F1B-D99E-43A1-99CA-11D4A96AD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AECA7-FECE-45B2-ABDF-138DD8C7F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1673B-F32B-4094-8049-D3DFCFB02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3CC0D-BE4F-4CBA-A4F9-6B27DEE9B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613ED-BB5A-4500-8DA3-EAAC447B1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A8DBB-E432-44E0-8DC7-2C80B2B52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16BE2-A60E-4B02-A82B-EBD109490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F0514-6155-42CB-9765-99C7713BA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0E9C2-D76F-4A3D-A97D-D0F9FB1D7EBE}" type="slidenum">
              <a:rPr b="0" lang="ar-SA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E3BC4-C6D1-47C3-A121-2FDAD4344A0D}" type="slidenum">
              <a:rPr b="0" lang="ar-SA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2195640" y="907920"/>
            <a:ext cx="544356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1042920" y="1504800"/>
            <a:ext cx="7274160" cy="497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2411280" y="765000"/>
            <a:ext cx="4713480" cy="525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755640" y="1703520"/>
            <a:ext cx="7920000" cy="45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1332000" y="1341360"/>
            <a:ext cx="6769080" cy="50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826920" y="404640"/>
            <a:ext cx="7848720" cy="59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2700360" y="981000"/>
            <a:ext cx="4645080" cy="511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1619280" y="1014480"/>
            <a:ext cx="6481800" cy="458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755640" y="476280"/>
            <a:ext cx="7777080" cy="583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9T17:37:46Z</dcterms:created>
  <dc:creator>أجــك للـحــاسبـات  AGC 4 C</dc:creator>
  <dc:description/>
  <dc:language>en-US</dc:language>
  <cp:lastModifiedBy>tahir</cp:lastModifiedBy>
  <dcterms:modified xsi:type="dcterms:W3CDTF">2006-02-07T12:50:07Z</dcterms:modified>
  <cp:revision>28</cp:revision>
  <dc:subject/>
  <dc:title>عرض تقديمي من PowerPoint</dc:title>
</cp:coreProperties>
</file>