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A27-D536-4EE2-809A-D585C5BC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A3D-D62A-45EE-AF3D-598299F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910-91DA-4F59-89B3-5995E3B6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F8A-0E1E-4697-A610-CCFEAD6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836-29CD-48D4-8AD9-941C56D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176-3EDD-4916-B9AE-6D9A48DB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BD50-90FC-4DB1-A828-5DF35265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C34-0485-420C-B9B2-B889BA8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C5E5-A00F-4531-A583-5287B3F3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F8E-1090-497E-B07A-A8E7EB5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2071-ADC1-43AF-8CAA-52E144D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E52-F3CB-49D4-9F8B-EC2AE2E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389E-8840-404B-9E5B-8E4FE69B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5DD-570E-4F81-8200-474458B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9ED-00D6-4193-AA01-ABFAC064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2497-3936-48C2-876B-5546F3F6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FB2-0BE9-4D3D-A84D-64113B8C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D41-3A64-4235-AF05-EF557BFC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62F-35D4-42DB-B4D3-DF3A742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7F5-03C4-44C9-89BE-2373685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EF8-0271-45F8-961A-84277D5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7E0-E073-47E0-8A9E-9E91479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917-9C8E-4443-A4CB-6CC1D75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1B2-A66A-4B3A-802C-0B92DB3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F1D-667D-497C-BA3E-C45630947DB5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B1FE-90FE-4442-BB93-1339578523A5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44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1504800"/>
            <a:ext cx="72741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7134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703520"/>
            <a:ext cx="7920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464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19280" y="1014480"/>
            <a:ext cx="6481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7:37:46Z</dcterms:created>
  <dc:creator>أجــك للـحــاسبـات  AGC 4 C</dc:creator>
  <dc:description/>
  <dc:language>en-US</dc:language>
  <cp:lastModifiedBy>tahir</cp:lastModifiedBy>
  <dcterms:modified xsi:type="dcterms:W3CDTF">2006-02-07T12:50:07Z</dcterms:modified>
  <cp:revision>28</cp:revision>
  <dc:subject/>
  <dc:title>عرض تقديمي من PowerPoint</dc:title>
</cp:coreProperties>
</file>